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14CD-FDBF-4FFD-8EC1-C964FE6FAB52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2840-68EC-48A1-A3E8-53BE042676F1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3D3B-67F0-4FE7-96D6-E81E8FABA0B6}" type="slidenum">
              <a:rPr b="0" lang="es-MX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173D-E656-4207-A1FF-5C03AE41A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563-BB1F-423E-80D0-165A84F2D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C86E-0FC3-4B11-9E7E-F26E52C1C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9BBA1-5289-4064-8B94-357F8E14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65B2-CEAD-4C7D-BA05-E9E591291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6CB9-A62C-46A1-AAB7-79734DED2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1C67-9270-465A-B73B-A12EA9CB7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3818-EC1D-489F-A1C0-DA3794A4A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19A-1001-485A-9DB6-18E269BE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7F8D-CABB-45E9-B91E-92AB8E6E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77C-CA9F-44C4-B891-033A0ADB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6DF5-04AA-4533-8CEA-77A1F1B55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1423D-6AEC-4247-A8A0-B92ACB9A20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es.wikipedia.org/wiki/Frente_Amplio_Progresista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1042920" y="476280"/>
            <a:ext cx="6913800" cy="39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METODODOLOGIA ESTUDIO DE CASO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“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Como partir de lo general hacia lo partic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Hasta llegar a una conclusión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Método Harvar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20200" y="189000"/>
            <a:ext cx="126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723960"/>
          <a:ext cx="8785440" cy="566892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- Analizar el material de estudio;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- Lectura del caso y antecedentes; [marcar o subrayar datos importa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- Sacar un 1er. resumen (ubicar el problema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- Releer el caso ( marcar hecho relevantes]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- Preparar un 2o resumen; [eliminar duplicidades datos irrelevantes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- Dar forma a tu propuesta; [análisis aplicando actitud interrogante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- Documentar la propuesta; (datos, cifras indicadores de medición etc.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- Presentarla a tu equipo tu propuesta para; (análisis y discusión 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- Preparar consenso con tu equipo; [tomar en cuenta diferentes 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spectivas, criterios y experiencias]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-Elaborar un resumen del caso ( consenso del equipo);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-Presentación ante un consejo o reunión  plenaria, [ exposición para  -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bate].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-Sacar de cada presentación tu propio resumen  y  tu personal –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endizaje.[nuevos conocimientos, actitud analítica y creativa]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AutoShape 2"/>
          <p:cNvSpPr/>
          <p:nvPr/>
        </p:nvSpPr>
        <p:spPr>
          <a:xfrm rot="5400000">
            <a:off x="2556000" y="186840"/>
            <a:ext cx="3311280" cy="67694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Ejemplo de formato tipo banderí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i="1" lang="es-ES" sz="2000" spc="-1" strike="noStrike">
                <a:solidFill>
                  <a:srgbClr val="000000"/>
                </a:solidFill>
                <a:latin typeface="Arial"/>
              </a:rPr>
              <a:t>parte de lo general            a lo particular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826920" y="1268280"/>
            <a:ext cx="100836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os 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195640" y="1557360"/>
            <a:ext cx="1224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or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3708360" y="1844640"/>
            <a:ext cx="1295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..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5219640" y="2133720"/>
            <a:ext cx="144000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umen; sínte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clusion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6877080" y="2709720"/>
            <a:ext cx="129528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, program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ables.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3851280" y="38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1459080" y="333360"/>
            <a:ext cx="656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FORMATO, DATOS  E INFORMACION :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324000" y="1052640"/>
            <a:ext cx="8731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Metodología desarrollada  en la Universidad Harvard;  Boston massachset, USA.  Adoptada en  México por el IPADE  y  U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Arial"/>
              </a:rPr>
              <a:t>en los años 60as’, para el manejo efectivo de la comunicación y funcion Directiva; (Managment) y se ha venido perfeccionando a traves del tiempo como documento de juntas y reuniones ejecutivas porque facilita  la toma de decis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Object 4"/>
          <p:cNvGraphicFramePr/>
          <p:nvPr/>
        </p:nvGraphicFramePr>
        <p:xfrm>
          <a:off x="179280" y="3343320"/>
          <a:ext cx="8785440" cy="217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343320"/>
                    <a:ext cx="8785440" cy="21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79280" y="189000"/>
          <a:ext cx="8739360" cy="6625800"/>
        </p:xfrm>
        <a:graphic>
          <a:graphicData uri="http://schemas.openxmlformats.org/drawingml/2006/table">
            <a:tbl>
              <a:tblPr/>
              <a:tblGrid>
                <a:gridCol w="630000"/>
                <a:gridCol w="1457640"/>
                <a:gridCol w="1657800"/>
                <a:gridCol w="537840"/>
                <a:gridCol w="216000"/>
                <a:gridCol w="2103480"/>
                <a:gridCol w="2136600"/>
              </a:tblGrid>
              <a:tr h="263160"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.N.I.T.E.C. SU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TODOLOGIA DE CAS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ESOR: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08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FACTOR:  "       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          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CHA :   /           /2008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6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:- " (Tema)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/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tulo"                                       "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O No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um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.Ev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CHOS/ ANTECEDE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NTARIOS PROBLE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N A L I S I S / RESULT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umen y Síntesi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9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fech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mportantes / relevantes)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dentificados o relevante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evaluación de informa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propuestas y programas/ Estrateg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ev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AJ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responsables y fecha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6480" y="-525600"/>
          <a:ext cx="9131040" cy="7267680"/>
        </p:xfrm>
        <a:graphic>
          <a:graphicData uri="http://schemas.openxmlformats.org/drawingml/2006/table">
            <a:tbl>
              <a:tblPr/>
              <a:tblGrid>
                <a:gridCol w="581040"/>
                <a:gridCol w="2288880"/>
                <a:gridCol w="1892520"/>
                <a:gridCol w="1866960"/>
                <a:gridCol w="250164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.P.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TODOLOGÍA DE CAS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FESOR:                           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teria: LOGÍSTIC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99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"FACTOR: EL PROCESO LOGÍSTIC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IME GUILLERMO SÁNCHE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 :   14/    05    /2008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quipo #4.- MARTÍNEZ JUÁREZ AZUCE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udio de Cas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MEX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LORES CASTAÑEDA VANESS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Eve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ECHOS /ANTECEDE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ENTARIOS PROBLEM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N Á L I S I S/RESULTAD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men y Síntesi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ch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mportantes / relevantes)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identificados o relevantes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evaluación de informació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(propuestas y programas/ Estrategi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ingeniero mexicano Ezequiel Ordóñez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supervisión es continu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Hacer planeaciones estratégic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scubre  un yacimiento petrolero llamad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ha perdido liderazgo y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o no se acepta el diagnost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ano y largo plaz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Pez,  ubicado en el Campo de El Éba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vidad en el merca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comunicación con e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valuar posición competitiv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San Luis Potosí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OBIERN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sonal no es la adecuada.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stablecer auto evaluaciones, tant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steriormente, Venustiano Carranza creó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un líder que guíe a 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xiste corrupción de 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infraestructura, área administrativ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Comisión Técnica 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bido a múltiples interes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fera más alta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y producción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 Constitución Política de los Estado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Manipula las cifras para presenta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xiste la carta de distribu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stablecer condiciones de segur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idos Mexicanos determina el contro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 diagnostico a la sociedad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funcione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el medio amb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ecto de la Nación sobre todas las riqueza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OCIE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l liderazgo es ejercido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Buscar energías alternativas paro no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subsuel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Ya no cree en sus representan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nera defic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pender sólo 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isten en México 80 compañías petrolera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MPETITIV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competitividad a disminuido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Dejar de manejar las cifras de Pemex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toras y 17 exportadoras, cuyo capita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ha perdido competitividad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n el mercad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rmitir la Modernización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a integrado en un 91.5% norteamerican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undial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Pemex es exprimido fiscalm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Mejorar la relación con la sociedad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firma el primer Contrato Colectivo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NANCI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 la Secretaría de Hacienda 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volucrar a misma en las decis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rabajo entre el Sindicato de Trabajadore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un ingreso destinado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rédito Públic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madas en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oleros de la República Mexican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modernización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hay buenas condi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provechar la tecnología ya existente en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 expide una nueva Ley Orgánica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ACION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 aceptar el cambi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l paí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óleos Mexicanos y Organismos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El mantenimiento en la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economía es depend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Contratar a ingenieros mexicanos par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ubsidiari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fraestructura no es optim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l petróleo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tribuir al empleo del paí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EMEX lanza al mercado nacional la gasolin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LORA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sociedad ya no creé en lo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Adquirir compromisos con empres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emium Ultra Bajo Azufr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garantiza la seguridad de l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rigentes de Pemex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etroler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Ante la tentativa del gobierno de reformar su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giones a explor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No se buscan energías renovabl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</a:t>
                      </a:r>
                      <a:r>
                        <a:rPr b="0" lang="es-MX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arantizar el desarrollo integral de Peme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lítica energética a través de la Comisión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 alternativa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ue permita el crecimiento económico de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a Energía se levantaron contra la decisión d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Se a disminuido la producció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*La protección al medio ambien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ís, en todos sus ámbit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vatizarlo con el Frente Amplio Progresista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 hidrocarburos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s deficient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121"/>
          <p:cNvSpPr/>
          <p:nvPr/>
        </p:nvSpPr>
        <p:spPr>
          <a:xfrm>
            <a:off x="179280" y="536400"/>
            <a:ext cx="8893440" cy="606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Reglas para la exposición en sesión plenar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edir la palabra levantando la mano; ( respeto a quien tenga la palabr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otivar la participación de todos.( siempre tenemos algo qu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render de los demá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entar al tím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emer a Equivocars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o temer a que nos pregunte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al audaz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piciar la discusión ordenada y respetuosa;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er precisos concisos y obje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Juega  Roll. del Moderador .- No resuelve los casos, revira las opiniones y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troalimenta inform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1403280" y="2394000"/>
          <a:ext cx="6696000" cy="1189080"/>
        </p:xfrm>
        <a:graphic>
          <a:graphicData uri="http://schemas.openxmlformats.org/drawingml/2006/table">
            <a:tbl>
              <a:tblPr/>
              <a:tblGrid>
                <a:gridCol w="6696000"/>
              </a:tblGrid>
              <a:tr h="1191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"Todo esfuerzo tiene su recompensa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recer, aprender mas y comparti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 los demás)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3557160" y="568440"/>
            <a:ext cx="138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fí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95280" y="1484280"/>
            <a:ext cx="8137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Metodología Estudio de caso.-U. Harvard; / IPADE / Universidad Panamericana de México, A.C.; Carlos Llano Cifuentes; [Mc graw Hill-IPAD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puntes Proceso, Formatos y ejemplos de Estudio de caso; Autor Lic. Jaime G. Sanchez 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vistas Expansión sobre el tema metodología Estudio de caso [2002/2005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6600" y="133200"/>
            <a:ext cx="8682120" cy="672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79280" y="907920"/>
          <a:ext cx="8425080" cy="2163960"/>
        </p:xfrm>
        <a:graphic>
          <a:graphicData uri="http://schemas.openxmlformats.org/drawingml/2006/table">
            <a:tbl>
              <a:tblPr/>
              <a:tblGrid>
                <a:gridCol w="1204920"/>
                <a:gridCol w="1201680"/>
                <a:gridCol w="1204920"/>
                <a:gridCol w="1202040"/>
                <a:gridCol w="1204920"/>
                <a:gridCol w="1201680"/>
                <a:gridCol w="1204920"/>
              </a:tblGrid>
              <a:tr h="45972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ÉTODO DE ESTUDIO DE CASO.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700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 el proceso para dar a la luz  hechos, análisis,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ción y síntesis de casos estudio y situaciones reales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forma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Text Box 64"/>
          <p:cNvSpPr/>
          <p:nvPr/>
        </p:nvSpPr>
        <p:spPr>
          <a:xfrm>
            <a:off x="1792080" y="2108160"/>
            <a:ext cx="44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bjetiva, concreta y proposi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0"/>
          <p:cNvSpPr/>
          <p:nvPr/>
        </p:nvSpPr>
        <p:spPr>
          <a:xfrm>
            <a:off x="522720" y="25830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95"/>
          <p:cNvSpPr/>
          <p:nvPr/>
        </p:nvSpPr>
        <p:spPr>
          <a:xfrm>
            <a:off x="539640" y="3070080"/>
            <a:ext cx="8136000" cy="24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écnica y herramienta desarrollada en la Universidad de Harvard USA , para  estudiar y sintetizar casos y  situaciones reales;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mportada a  México por su filial  IPADE que se encargo de diseminarla y compartirla  en Universidades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y  --     empresas  por su exitoso método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1"/>
          <p:cNvSpPr/>
          <p:nvPr/>
        </p:nvSpPr>
        <p:spPr>
          <a:xfrm>
            <a:off x="250920" y="189000"/>
            <a:ext cx="8189640" cy="26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etodologí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dentificar hechos relevantes; comentarios y datos importantes; Análisis de información  y hechos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sumen, síntesis, propuesta  decisiones y recomendaciones:;( designación de responsables y fechas de ejecución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6"/>
          <p:cNvSpPr/>
          <p:nvPr/>
        </p:nvSpPr>
        <p:spPr>
          <a:xfrm>
            <a:off x="468360" y="306864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Separar la opinión personal &gt; de los problemas y su jerarquía -&gt; ejecutar fase de análisis y concebir  soluciones posibles: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37"/>
          <p:cNvSpPr/>
          <p:nvPr/>
        </p:nvSpPr>
        <p:spPr>
          <a:xfrm>
            <a:off x="539640" y="4011480"/>
            <a:ext cx="7848720" cy="27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)  Aprender =  Escribir es descubrir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saber transmitir los conocimientos e ideas a los demá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bemos de localizar donde están los problemas =  cuando la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mpresas mugen es porque están moribun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donde les duele  y  a tiempo, ( diagnostico del medico como experto en anatomí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Continua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38"/>
          <p:cNvSpPr/>
          <p:nvPr/>
        </p:nvSpPr>
        <p:spPr>
          <a:xfrm>
            <a:off x="1547640" y="630864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99"/>
          <p:cNvSpPr/>
          <p:nvPr/>
        </p:nvSpPr>
        <p:spPr>
          <a:xfrm>
            <a:off x="108000" y="189000"/>
            <a:ext cx="9144000" cy="59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misa Japones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.- es mas fácil copiar, reproducir, mejorar  y optimizar que inventar :  Ejemplo.- que podría yo hacer si fuera responsable de esta empresa    ante un problema determinado ?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omenta el dialogo y la participación de los involucrados bajo diferentes enfoques y perspectiva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ye, determina y  define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te de lo subjetivo a lo objetivo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s  un método sano y de respeto mutuo para la toma de decision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 nuestro sentido de comprensión (político, social y económico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j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Desarrolla nuestra capacidad  trabajo en equipo y participativ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dquirir una perspectiva de síntesis en los negocios/ y todo tipo de situaciones o problema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crementar nuestro conocimiento social, de negociación y relaciones huma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)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poner ante una sesión plenaria o grupo nuestras propuestas y  recomendaciones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684360" y="189000"/>
            <a:ext cx="721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licar Actitud interrog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664560" y="666720"/>
            <a:ext cx="6624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roceso interrogativ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….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que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o…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do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ien…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…..!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$ ; #; %;  tiempo u otra unidad de med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======================================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do este proceso nos leva hacia un análisis exhaus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la situación, problema, o contingencia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 permite crear escenarios y/o alternativas de solu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6"/>
          <p:cNvGraphicFramePr/>
          <p:nvPr/>
        </p:nvGraphicFramePr>
        <p:xfrm>
          <a:off x="3850920" y="1125360"/>
          <a:ext cx="1879560" cy="21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0920" y="1125360"/>
                    <a:ext cx="18795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7"/>
          <p:cNvSpPr/>
          <p:nvPr/>
        </p:nvSpPr>
        <p:spPr>
          <a:xfrm>
            <a:off x="735480" y="5681520"/>
            <a:ext cx="52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s facilita la toma de decis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cuerden la información es poder y el pod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mite tomar buenas deci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Object 8"/>
          <p:cNvGraphicFramePr/>
          <p:nvPr/>
        </p:nvGraphicFramePr>
        <p:xfrm>
          <a:off x="6948360" y="3213000"/>
          <a:ext cx="1656000" cy="114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48360" y="3213000"/>
                    <a:ext cx="165600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9"/>
          <p:cNvGraphicFramePr/>
          <p:nvPr/>
        </p:nvGraphicFramePr>
        <p:xfrm>
          <a:off x="6732720" y="4365720"/>
          <a:ext cx="1844640" cy="2346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32720" y="4365720"/>
                    <a:ext cx="184464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47840" y="784080"/>
            <a:ext cx="801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ble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ue es Problema……………………………………………………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ción  analítica………………………………………………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826920" y="6922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692280"/>
            <a:ext cx="7991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ición y alcanc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ción del proble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[ situación diferente a la rutina o aparición síntomas;  -se recomienda documentar con información relevante; datos, hechos, cifras, muestras o ejemplos que debe ser listada y clasificada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65160"/>
            <a:ext cx="813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strumentos en la administración de proyectos;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708360" y="5084640"/>
            <a:ext cx="1368360" cy="15130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 probl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83280" y="4941720"/>
            <a:ext cx="1368360" cy="1079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os, $;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fras; #;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796000" y="3429000"/>
            <a:ext cx="1728720" cy="7207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mp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3141720"/>
            <a:ext cx="1368360" cy="10080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ch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ció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lev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5230800"/>
            <a:ext cx="1512720" cy="7192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63640" y="3357720"/>
            <a:ext cx="1368360" cy="115092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ínto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5367240"/>
            <a:ext cx="12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estr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149720"/>
            <a:ext cx="0" cy="861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2000" y="4076640"/>
            <a:ext cx="1295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500360" y="4149720"/>
            <a:ext cx="12236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916360" y="5229360"/>
            <a:ext cx="71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5292720" y="5300640"/>
            <a:ext cx="719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755640" y="115920"/>
            <a:ext cx="266400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572000" y="189000"/>
            <a:ext cx="417672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).-  Marco estructur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Elementos conceptuales para el Análisis</a:t>
            </a: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 un problema o situación o desv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755640" y="836640"/>
            <a:ext cx="2664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755640" y="148428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55640" y="2131920"/>
            <a:ext cx="2664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755640" y="2924280"/>
            <a:ext cx="2664000" cy="43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755640" y="364500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755640" y="4292640"/>
            <a:ext cx="2664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755640" y="4940280"/>
            <a:ext cx="266400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2"/>
          <p:cNvSpPr/>
          <p:nvPr/>
        </p:nvSpPr>
        <p:spPr>
          <a:xfrm>
            <a:off x="755640" y="5732640"/>
            <a:ext cx="26640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1474920" y="396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tuación o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vi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4"/>
          <p:cNvSpPr/>
          <p:nvPr/>
        </p:nvSpPr>
        <p:spPr>
          <a:xfrm>
            <a:off x="906480" y="760320"/>
            <a:ext cx="261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álisis del Entorno c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titud interrogante  ?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5"/>
          <p:cNvSpPr/>
          <p:nvPr/>
        </p:nvSpPr>
        <p:spPr>
          <a:xfrm>
            <a:off x="690480" y="1484280"/>
            <a:ext cx="287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tecció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portunida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6"/>
          <p:cNvSpPr/>
          <p:nvPr/>
        </p:nvSpPr>
        <p:spPr>
          <a:xfrm>
            <a:off x="785880" y="2133720"/>
            <a:ext cx="2570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álisis de hallazg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a satisfacer neces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874800" y="2852640"/>
            <a:ext cx="219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finición concep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 proyecto/ probl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8"/>
          <p:cNvSpPr/>
          <p:nvPr/>
        </p:nvSpPr>
        <p:spPr>
          <a:xfrm>
            <a:off x="831960" y="3597120"/>
            <a:ext cx="25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ción d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9"/>
          <p:cNvSpPr/>
          <p:nvPr/>
        </p:nvSpPr>
        <p:spPr>
          <a:xfrm>
            <a:off x="762120" y="4316400"/>
            <a:ext cx="25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ternativas  de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20"/>
          <p:cNvSpPr/>
          <p:nvPr/>
        </p:nvSpPr>
        <p:spPr>
          <a:xfrm>
            <a:off x="755640" y="486900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Decisión </a:t>
            </a: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/Costo</a:t>
            </a: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benefici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00"/>
                </a:solidFill>
                <a:latin typeface="Arial"/>
              </a:rPr>
              <a:t>Rentabilidad / inversió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21"/>
          <p:cNvSpPr/>
          <p:nvPr/>
        </p:nvSpPr>
        <p:spPr>
          <a:xfrm>
            <a:off x="900000" y="5661000"/>
            <a:ext cx="257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acionalización de la mejor alternativa de solu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>
            <a:off x="2124000" y="62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3"/>
          <p:cNvSpPr/>
          <p:nvPr/>
        </p:nvSpPr>
        <p:spPr>
          <a:xfrm>
            <a:off x="2124000" y="119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24"/>
          <p:cNvSpPr/>
          <p:nvPr/>
        </p:nvSpPr>
        <p:spPr>
          <a:xfrm>
            <a:off x="2124000" y="1846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5"/>
          <p:cNvSpPr/>
          <p:nvPr/>
        </p:nvSpPr>
        <p:spPr>
          <a:xfrm>
            <a:off x="2124000" y="26370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6"/>
          <p:cNvSpPr/>
          <p:nvPr/>
        </p:nvSpPr>
        <p:spPr>
          <a:xfrm>
            <a:off x="2124000" y="3357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7"/>
          <p:cNvSpPr/>
          <p:nvPr/>
        </p:nvSpPr>
        <p:spPr>
          <a:xfrm>
            <a:off x="2124000" y="4005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8"/>
          <p:cNvSpPr/>
          <p:nvPr/>
        </p:nvSpPr>
        <p:spPr>
          <a:xfrm>
            <a:off x="2124000" y="4654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29"/>
          <p:cNvSpPr/>
          <p:nvPr/>
        </p:nvSpPr>
        <p:spPr>
          <a:xfrm>
            <a:off x="2124000" y="5446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33"/>
          <p:cNvSpPr/>
          <p:nvPr/>
        </p:nvSpPr>
        <p:spPr>
          <a:xfrm>
            <a:off x="5148360" y="5805360"/>
            <a:ext cx="2663640" cy="71928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5"/>
          <p:cNvSpPr/>
          <p:nvPr/>
        </p:nvSpPr>
        <p:spPr>
          <a:xfrm>
            <a:off x="5364000" y="14130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6"/>
          <p:cNvSpPr/>
          <p:nvPr/>
        </p:nvSpPr>
        <p:spPr>
          <a:xfrm>
            <a:off x="5651640" y="3716280"/>
            <a:ext cx="1873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7"/>
          <p:cNvSpPr/>
          <p:nvPr/>
        </p:nvSpPr>
        <p:spPr>
          <a:xfrm>
            <a:off x="5355000" y="5870520"/>
            <a:ext cx="217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cisión defini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38"/>
          <p:cNvSpPr/>
          <p:nvPr/>
        </p:nvSpPr>
        <p:spPr>
          <a:xfrm>
            <a:off x="3635280" y="6165720"/>
            <a:ext cx="1224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4T14:34:38Z</dcterms:created>
  <dc:creator> Jaime G.Sanchez C.</dc:creator>
  <dc:description/>
  <dc:language>en-US</dc:language>
  <cp:lastModifiedBy> Jaime G.Sanchez C.</cp:lastModifiedBy>
  <dcterms:modified xsi:type="dcterms:W3CDTF">2010-02-03T02:17:46Z</dcterms:modified>
  <cp:revision>22</cp:revision>
  <dc:subject/>
  <dc:title>Diapositiva 1</dc:title>
</cp:coreProperties>
</file>